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16A-784C-4A1F-8433-8654790E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F4D-D086-4204-8648-22C751E1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020-AD18-4552-A38A-59EBE670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8B8-5059-423E-B1BF-52B5F806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215-CCC5-40DB-935F-9F192CEC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5F9-2CF6-4E41-AE65-5DBE5952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001-E1F9-4B2E-9E71-B17AC92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91F-32DD-4C00-B92F-BDAE40A6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181-DC2C-4B19-B4BB-5A566476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9BB-B662-45C4-935D-95DAE380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E12-6894-4B67-909B-778E3B55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FDF-75DB-4E8B-9717-F637FDC7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D316-B094-4303-8B04-290A0B418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2057400"/>
            <a:ext cx="6248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ДУХОВНИ ДАРБИ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1. Рядко се питам какво мислят другите за м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2. Не винаги успявам да завърша започнатото навре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905120"/>
            <a:ext cx="9144000" cy="459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3. Чувствам се добре във всякакви социални ситу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819520"/>
            <a:ext cx="9144000" cy="1015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4. Предпочитам първо да определям резултата, след това 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ърша работ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Харесва ми да работя под напреж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6. Харесва ми предизвикателството на новите зада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7. Хората обикновено са убедени в правотата 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8. Проверката на детайлите не е от силните ми стра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057320"/>
            <a:ext cx="9144000" cy="4597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9. Ясната и определена мисъл е важна за м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71720"/>
            <a:ext cx="9144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0. Трудно изразявам себе си в група от х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886120"/>
            <a:ext cx="9144000" cy="459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1. Винаги се опитвам да довърша това, което съм започн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800520"/>
            <a:ext cx="9144000" cy="459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2. Красотата на природата често ме омай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00520"/>
            <a:ext cx="9144000" cy="101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3. Ще ми бъде интересно да бъда водещ на телевизион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рогра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162840"/>
            <a:ext cx="914400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4. Понякога ми е трудно да изразя точно това, което мис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09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5. Мисля, че бих могъл да напиша интересни разказ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19320"/>
            <a:ext cx="9144000" cy="45972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6. Бих могъл да работя като графичен дизайн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57400"/>
            <a:ext cx="9144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7. Познанията ми по изкуствата са доста огранич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81440"/>
            <a:ext cx="9144000" cy="1015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8. Предпочитам да върша някаква физическа работа, в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а чета или пи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191120"/>
            <a:ext cx="9144000" cy="459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9. Рядко обръщам внимание на дизайна на дрех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0. Харесва ми да коментирам с другите тяхното мн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1. Имам много творчески иде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63680"/>
            <a:ext cx="91440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2.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 мен фантастиката в повечето случаи е скуч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1944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3. Не съм много изобретател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809800"/>
            <a:ext cx="9144000" cy="459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4. Аз съм доста земен ч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76840"/>
            <a:ext cx="9144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5. Бих направил изложба на свои фотографии или рису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943520"/>
            <a:ext cx="9144000" cy="459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6. Бих могъл да направя нещо с атрактивен дизай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934240"/>
            <a:ext cx="914400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7. Приятно ми е да превеждам на други езиц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33520"/>
            <a:ext cx="9144000" cy="4597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8. Странните хора ме карат да се чувствам не комфорт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9. Лесно мога да намеря слабото място на един аргум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66688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0. Почти винаги вземам спонтанни ре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1. Новите идеи не са ми чуж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72428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2. Трудно убеждавам другите в моето мн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3. Обичам да организирам нещата предварител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4.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Абстрактното мислене ми помага да разреша проблем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14520"/>
            <a:ext cx="914400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5. Трудно мога да ремонтирам нещ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14520"/>
            <a:ext cx="9144000" cy="1015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6. Харесва ми да говоря за неща, които никога няма да с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случ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52800"/>
            <a:ext cx="9144000" cy="459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7. Коментарите на другите за мен не ме засяг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8. Опитвам се да реша проблемите си интуитив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934240"/>
            <a:ext cx="9144000" cy="459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9. Не винаги довършвам това, което съм започн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0. Не крия емоциите с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74312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1. Лесно намирам решение на практическите пробле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809800"/>
            <a:ext cx="9144000" cy="459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2. Традиционните методи обикновено са най-доб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86200"/>
            <a:ext cx="9144000" cy="4597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3. Моята независимост е много важна за м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943520"/>
            <a:ext cx="9144000" cy="459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4. Обичам да чета класическа литерату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838080"/>
            <a:ext cx="510516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 КОРИНТЯНИ 15 : 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819520"/>
            <a:ext cx="7238880" cy="15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Затова възлюбени мои братя, бъдете твърди, непоколебими и преизобилствайте всякога в Господното дело, понеже знаете, че в Господа трудът ви не е напразен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-15840"/>
          <a:ext cx="9144000" cy="6873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840"/>
                    <a:ext cx="9144000" cy="6873840"/>
                  </a:xfrm>
                  <a:prstGeom prst="rect">
                    <a:avLst/>
                  </a:prstGeom>
                  <a:ln w="7632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831960"/>
            <a:ext cx="7619760" cy="51940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004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93438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8100000"/>
          </a:gra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Дарбите са различни, но Духът е същият. Службите са различни, но Господ е същият. Различни са и действията, но Бог е същият, Който върши всичко във всичките човец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А на всеки се дава проявяването на Духа за обща полз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И всичко това се върши от един и същ Дух, Който разпределя на всеки особено, както Му е угодно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bg-BG" sz="2400" spc="-1" strike="noStrike">
                <a:solidFill>
                  <a:srgbClr val="3333cc"/>
                </a:solidFill>
                <a:latin typeface="Times New Roman"/>
              </a:rPr>
              <a:t>1 Коринтяни 12 : 4 - 7,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2152800"/>
            <a:ext cx="861048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АНКЕ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ЗА ОТКРИВАНЕ НА ВАШИТЕ ПРОФЕСИОНАЛНИ ЗАЛОЖБИ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ЛОЖИМИ И ЗА ДЕЙНОСТТА НА ЦЪРКВА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9105840" cy="1365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05840" cy="136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81160"/>
            <a:ext cx="9144000" cy="101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. Винаги се интересувам от мнението на околните преди 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зема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600200"/>
            <a:ext cx="9144000" cy="459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. Обичам да работя със статистически дан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362320"/>
            <a:ext cx="9144000" cy="1015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. Винаги съм готов да помогна на колега, който има семей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робле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24200"/>
            <a:ext cx="9144000" cy="459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. Често забравям къде оставям разни нещ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562640"/>
            <a:ext cx="9144000" cy="459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. Не винаги убеждавам другите в моето мн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400720"/>
            <a:ext cx="914400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. Личните обиди не ме засяг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238800"/>
            <a:ext cx="9144000" cy="459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 нова група хора обикновено се чувствам неспоко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71520"/>
            <a:ext cx="914400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8. Не обичам да разказвам на други за постиженията с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09600"/>
            <a:ext cx="9144000" cy="459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99"/>
              </a:gs>
              <a:gs pos="100000">
                <a:srgbClr val="ff00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9. Отегчавам се от светските задъл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048040"/>
            <a:ext cx="9144000" cy="4597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99ff"/>
              </a:gs>
              <a:gs pos="100000">
                <a:srgbClr val="33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0. Когато вземам участие в нещо, обичам винаги да печ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88612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1. Лесно се съгласявам с мнението на общество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800520"/>
            <a:ext cx="9144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2. Предпочел да правя нещата най- напред по мой нач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638600"/>
            <a:ext cx="9144000" cy="459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3. Професионалният успех е много важен за м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462640"/>
            <a:ext cx="9144000" cy="1015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4. Харесвам задачите, които изискват повече умствен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физическа енерг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5. Често се питам как всъщност се чувств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43120"/>
            <a:ext cx="9144000" cy="459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6. Ако някой ме обиди, показвам съвсем ясно, че съм засегн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74320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7. Обичам нещата около мен да са подред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00520"/>
            <a:ext cx="91440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8. Бързо вземам решенията по повечето въпрос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791240"/>
            <a:ext cx="914400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9. Традиционните решения са най-доб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857920"/>
            <a:ext cx="9144000" cy="459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0. Проблемите на останалите не ме интересув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20:58:06Z</dcterms:created>
  <dc:creator>CASD-Pleven</dc:creator>
  <dc:description/>
  <dc:language>en-US</dc:language>
  <cp:lastModifiedBy>TrifonTrifonow</cp:lastModifiedBy>
  <dcterms:modified xsi:type="dcterms:W3CDTF">2005-12-13T10:43:37Z</dcterms:modified>
  <cp:revision>226</cp:revision>
  <dc:subject/>
  <dc:title>No Slide Title</dc:title>
</cp:coreProperties>
</file>